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7D5-C8BF-4641-A2AD-F201559E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7DF-9ACF-488C-A4C7-2E4CF6398AC6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2ECB-E44D-4B0D-9F00-BEB0AE581221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2FC-15D9-410D-951B-56570299C037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06E8-E0E7-4A5B-888F-692DF9A68DF2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2973-7173-49B4-A83E-E823C880CB9D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3C88-A883-4109-BC88-070AD03EB805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986D-BA4F-4049-A56B-844660DECCB5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D3C-8979-4723-876F-BF108F8390AC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CCD8-8341-48F2-A1F1-30209BC494A3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E580-13D2-4A76-BCA3-73EAEF794662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837-47C2-4C43-837F-D34EE821AEE7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C927-51E0-45E2-A41A-FBD14E74BD99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0CD0-EBFA-4C19-B945-108BD0D4AB0F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2EC-F38A-455D-99C3-75FB44C438FA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E20-E280-455A-8D04-E745203DC1A7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D670-D308-48ED-9DBF-9198E4903C4B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D3E-F0CD-4F54-BE65-37FCC80BA344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6AD-8BAB-4531-B7CF-57D2AB5BBE9F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1F8-B3A7-4CC0-A1FD-A185F7310CA1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F1A2-D24C-4614-AB5F-F6E9B82C83A2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D84C-271F-411B-8B17-C213014D2F3C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44C-628E-4BF8-AE45-C3113434EE1A}" type="slidenum">
              <a:rPr b="0" lang="en-US" sz="1200" spc="-1" strike="noStrike">
                <a:solidFill>
                  <a:srgbClr val="4b25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965C-9CF3-4E6A-B9B5-ED6803F6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D690-6729-4C3D-8987-4BA49751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0ED7-FE58-4F5D-BF82-ADD17743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B3D1-39A6-4C70-B6B4-E163821C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17AC-B082-4416-A703-0E560154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0FAE-AB19-471C-AEE3-9285DBA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19F-F222-4E09-8BB5-44A4BCC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5EC-8DB3-493C-8EEE-6FEB0E23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ED4-AD29-4033-BBB8-522AD08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BB3-DC11-4AFF-B65A-7C0FE9C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981D-D17C-4BF7-AF3D-11CF7A2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3FD3-A7B6-4060-BB2D-DD7E262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5ED-A949-4589-AF7B-01B76DC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03C-E338-4819-8B30-0B65D2F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36B-AB33-4BC4-B889-5B118A1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644-6D1C-444B-B21B-8F9856DD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0A14-0D47-4F4E-983B-9D6FB67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6B65-95FD-4607-8D7B-393C6FC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05F8-1B25-41A2-B3D5-AA6F62E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DC65-1736-44B6-8071-EE1987E2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7DEA-6322-4FE2-A3C8-EA8830A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B5DE-FF47-4FC5-A2D7-24C3AC2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7E3E-2EDE-422F-8615-DE82A2B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F36B-F96C-40E2-8829-AF04BA5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A4D8-3970-4154-8CC7-3271D85E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 Narro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 Narrow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 Narrow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 Narrow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 Narrow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424-DB8D-4EF4-A7A9-78F8F98FC5B2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office@rc-cacak.co.y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07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Карактеристике професионалног деловања наставника </a:t>
            </a:r>
            <a:br>
              <a:rPr sz="4400"/>
            </a:b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и однос према иновацијам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5640" y="5013000"/>
            <a:ext cx="7201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 Narrow"/>
              </a:rPr>
              <a:t>Пројекат Регионалног центра за професионални развој у Чачку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Две димензије спремности наставника за иновациј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Когнитивно-афективна димензија: ставови и очекивања од иновација;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Бихејвиорална димензија: укључивање у програме стручног усавршавања, број сати проведених у овим програмима, изабрани програми едукације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Радна мотивација наставник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Општа радна мотивација: покретање и одржавање наставних активности: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оцијална радна мотивациј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Односи са претпостављенима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Интринсичка мотивација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Одговорност посла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Шансе за учење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игурност посла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Посебна мотивација наставника за наставу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Иновације : мотивациј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844640"/>
          <a:ext cx="8569080" cy="4086360"/>
        </p:xfrm>
        <a:graphic>
          <a:graphicData uri="http://schemas.openxmlformats.org/drawingml/2006/table">
            <a:tbl>
              <a:tblPr/>
              <a:tblGrid>
                <a:gridCol w="1214280"/>
                <a:gridCol w="765360"/>
                <a:gridCol w="958680"/>
                <a:gridCol w="1003320"/>
                <a:gridCol w="973080"/>
                <a:gridCol w="851040"/>
                <a:gridCol w="866880"/>
                <a:gridCol w="868320"/>
                <a:gridCol w="10681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Општа РМ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Наставна РМ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Социјална РМ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Односи са </a:t>
                      </a:r>
                      <a:r>
                        <a:rPr b="0" lang="sr-CS" sz="14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претпостављенима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Интрин-сичка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Одговорност посла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Шансе за учење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 Narrow"/>
                        </a:rPr>
                        <a:t>Сигурност посла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Став према иноваци-јама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39**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47**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26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28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42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32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Сати усавр-шавања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-0,01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-0,04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-0,02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-0,04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00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-0,01</a:t>
                      </a:r>
                      <a:endParaRPr b="0" lang="en-US" sz="16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Мотивисаност наставник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250920" y="1341360"/>
          <a:ext cx="8569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56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69564"/>
                </a:solidFill>
                <a:latin typeface="Arial"/>
              </a:rPr>
              <a:t>Улоге наставника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Професионалне улоге наставника су системи понашања који се очекују на социјалном положају НАСТАВНИК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вака улога интегрише очекивања за њу везана, обавезе, права која из ње проистичу и план реализације улоге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модел у настави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дијагностича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плане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организ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инициј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кре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мотив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партне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инструк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документатор (администратор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евалу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медијато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саветник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самопроцењивач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ученик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самореализатор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69564"/>
                </a:solidFill>
                <a:latin typeface="Arial"/>
              </a:rPr>
              <a:t>Остваривање професионалних улога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395280" y="1413000"/>
          <a:ext cx="84978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4978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69564"/>
                </a:solidFill>
                <a:latin typeface="Arial"/>
              </a:rPr>
              <a:t>Професионалне улоге наставника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50" name="Object 8"/>
          <p:cNvGraphicFramePr/>
          <p:nvPr/>
        </p:nvGraphicFramePr>
        <p:xfrm>
          <a:off x="4643280" y="1557360"/>
          <a:ext cx="40388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038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468360" y="1557360"/>
          <a:ext cx="4038480" cy="46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557360"/>
                    <a:ext cx="40384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69564"/>
                </a:solidFill>
                <a:latin typeface="Arial"/>
              </a:rPr>
              <a:t>Остваривање улога наставника, интензитет мотивације и однос према иновацијама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79280" y="1754280"/>
            <a:ext cx="8785440" cy="48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Разлике између школ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јачина опште радне мотивације – издвајају се као више мотивисани од наставника осталих школа наставници Основне школе “Др Драгиша Мишовић” и Економске школе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епен остваривања професионалних улога – да у већем степену од осталих остварују професионалне улоге процењују наставници школа “Др Драгиша Мишовић” и “Ратко Митровић”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премност за прихватање иновација исказана ставовима и очекивањима од иновација је углавном уједначен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Стручно усавршавањ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492280"/>
          <a:ext cx="8224920" cy="3205080"/>
        </p:xfrm>
        <a:graphic>
          <a:graphicData uri="http://schemas.openxmlformats.org/drawingml/2006/table">
            <a:tbl>
              <a:tblPr/>
              <a:tblGrid>
                <a:gridCol w="2459160"/>
                <a:gridCol w="1441440"/>
                <a:gridCol w="1441440"/>
                <a:gridCol w="1441440"/>
                <a:gridCol w="14414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мин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макс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Просек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СД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Сати у програмима СУ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80,45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58,36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Број програма СУ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b85c00"/>
                          </a:solidFill>
                          <a:latin typeface="Arial"/>
                        </a:rPr>
                        <a:t>2,59</a:t>
                      </a:r>
                      <a:endParaRPr b="0" lang="en-US" sz="2800" spc="-1" strike="noStrike">
                        <a:solidFill>
                          <a:srgbClr val="4b25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111400" y="6000840"/>
            <a:ext cx="48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b2500"/>
                </a:solidFill>
                <a:latin typeface="Arial Narrow"/>
              </a:rPr>
              <a:t>Подаци обухватају период 2003.  </a:t>
            </a:r>
            <a:r>
              <a:rPr b="0" lang="en-US" sz="1800" spc="-1" strike="noStrike">
                <a:solidFill>
                  <a:srgbClr val="4b2500"/>
                </a:solidFill>
                <a:latin typeface="Arial Narrow"/>
              </a:rPr>
              <a:t>-</a:t>
            </a:r>
            <a:r>
              <a:rPr b="0" lang="sr-CS" sz="1800" spc="-1" strike="noStrike">
                <a:solidFill>
                  <a:srgbClr val="4b2500"/>
                </a:solidFill>
                <a:latin typeface="Arial Narrow"/>
              </a:rPr>
              <a:t> октобар 2007. год.</a:t>
            </a:r>
            <a:endParaRPr b="0" lang="en-US" sz="1800" spc="-1" strike="noStrike">
              <a:solidFill>
                <a:srgbClr val="4b25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Циљ пројект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анализа стања у школама;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развој акционо-истраживачког приступа организованом институционалном професионалном развоју наставника;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повезивање наставника, сарадница и РЦЧ, промовисање активности и потенцијала РЦЧ у усмеравању и подстицању иновирања наставног процеса и професионалног развоја наставни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Однос димензија иновација</a:t>
            </a:r>
            <a:br>
              <a:rPr sz="4400"/>
            </a:br>
            <a:r>
              <a:rPr b="1" lang="sr-CS" sz="2000" spc="-1" strike="noStrike">
                <a:solidFill>
                  <a:srgbClr val="a69564"/>
                </a:solidFill>
                <a:latin typeface="Arial"/>
              </a:rPr>
              <a:t>Закључак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в према иновацијама не корелира са бројем сати стручног усавршавања – учествовање у програмима није повезано са декларативним опредељењем за или против усавршавањ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Учествовање у програмима стручног усавршавања није повезано ни са мотивацијом наставника, као ни са степеном остваривања професионалних улог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Наставнике, вероватно, на учествовање и неучествовање опредељују неки други разлози, а не њихови ставови и однос према иновацијама, као ни друге мотивационе категорије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Изабрани извори: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Alibabi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ć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, A., Ovesni, K. (2005). 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Upravljanje profesionalnim razvojem nastavnika, </a:t>
            </a:r>
            <a:r>
              <a:rPr b="0" i="1" lang="sr-Latn-CS" sz="2000" spc="-1" strike="noStrike">
                <a:solidFill>
                  <a:srgbClr val="b85c00"/>
                </a:solidFill>
                <a:latin typeface="Arial"/>
              </a:rPr>
              <a:t>Inovacije u nastavi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, 1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8(2), 14-29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Petrović, D. (1992). Radna motivacija i samoprocena uspešnosti nastavnika srednjih škola, </a:t>
            </a:r>
            <a:r>
              <a:rPr b="0" i="1" lang="sr-Latn-CS" sz="2000" spc="-1" strike="noStrike">
                <a:solidFill>
                  <a:srgbClr val="b85c00"/>
                </a:solidFill>
                <a:latin typeface="Arial"/>
              </a:rPr>
              <a:t>Psihologija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, 1-2/92, 145-160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Vujisi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ć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Ž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ivkovi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ć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, N. (2004). 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Uloga škole u obrazovanju i profesionalnom razvoju nastavnika, </a:t>
            </a:r>
            <a:r>
              <a:rPr b="0" i="1" lang="sr-Latn-CS" sz="2000" spc="-1" strike="noStrike">
                <a:solidFill>
                  <a:srgbClr val="b85c00"/>
                </a:solidFill>
                <a:latin typeface="Arial"/>
              </a:rPr>
              <a:t>Pedagogija,</a:t>
            </a:r>
            <a:r>
              <a:rPr b="0" lang="sr-Latn-CS" sz="2000" spc="-1" strike="noStrike">
                <a:solidFill>
                  <a:srgbClr val="b85c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b85c00"/>
                </a:solidFill>
                <a:latin typeface="Arial"/>
              </a:rPr>
              <a:t>42(1), 39-47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Тим пројект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Др Драгана Бјекић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Др Мирослав Бјек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Мирјана Аћим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Татјана Брад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Марија Вул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Љубинка Војин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Катарина Дуњић-Манд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Татјана Јаћим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Гордана Поповић-Божан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Снежана Рафаил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Биљана Стеван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Невенка Тол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Лидија Ћирков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Стана Шипет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др Жељко М. Папи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5c00"/>
                </a:solidFill>
                <a:latin typeface="Arial Narrow"/>
              </a:rPr>
              <a:t>e-mail: </a:t>
            </a:r>
            <a:r>
              <a:rPr b="0" lang="en-US" sz="2800" spc="-1" strike="noStrike" u="sng">
                <a:solidFill>
                  <a:srgbClr val="7b6d47"/>
                </a:solidFill>
                <a:uFillTx/>
                <a:latin typeface="Arial Narrow"/>
                <a:hlinkClick r:id="rId1"/>
              </a:rPr>
              <a:t>office@rc-cacak.co.yu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Предмет и циљ истраживањ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b85c00"/>
                </a:solidFill>
                <a:latin typeface="Arial Narrow"/>
              </a:rPr>
              <a:t>Предмет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повезаност мотивационих и структуралних карактеристика професионалног деловања наставника са прихватањем иновација у настав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b85c00"/>
                </a:solidFill>
                <a:latin typeface="Arial Narrow"/>
              </a:rPr>
              <a:t>Циљеви: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анализа спремности наставника (експлицитни и имплицитни ниво) за иновирање наставе и за укључивање у програме усавршавања;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b85c00"/>
                </a:solidFill>
                <a:latin typeface="Arial Narrow"/>
              </a:rPr>
              <a:t>усмеравање организованог професионалног развој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 Narrow"/>
              </a:rPr>
              <a:t>Испитивано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Професионалне димензије наставниковог рада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Професионалне улоге наставника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вови према раду: карактеристике посла, однос према раду и радна мотивација,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Однос према иновацијама: очекивања од иновација и колегијална подршка иновацијам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Опште демографске варијабле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По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Радни стаж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Образовне варијабл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Ниво наставе: разредна, предметна у основној школи, предметна у средњој школи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Сати стручног усавршавања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Испитаниц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Наставници основних и средњих школа у Чачку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85c00"/>
                </a:solidFill>
                <a:latin typeface="Arial"/>
              </a:rPr>
              <a:t>Учествовало 369 наставница и наставника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356000" y="2492280"/>
          <a:ext cx="439272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492280"/>
                    <a:ext cx="439272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6"/>
          <p:cNvGraphicFramePr/>
          <p:nvPr/>
        </p:nvGraphicFramePr>
        <p:xfrm>
          <a:off x="324000" y="2492280"/>
          <a:ext cx="4248000" cy="38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492280"/>
                    <a:ext cx="42480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69564"/>
                </a:solidFill>
                <a:latin typeface="Arial"/>
              </a:rPr>
              <a:t>Реализација истраживања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Истраживање реализовано као део обавезног програма стручног усавршавања наставника “Диференцирана информатичка обука наставника – модул за стручне сараднике” (М. Бјекић и Н. Станковић),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Спроведено у периоду 18. септембар – 18. децембар 2007. године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69564"/>
                </a:solidFill>
                <a:latin typeface="Arial"/>
              </a:rPr>
              <a:t>Наставници : иновациј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b85c00"/>
                </a:solidFill>
                <a:latin typeface="Arial"/>
              </a:rPr>
              <a:t>Иновације</a:t>
            </a: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 - важан део развоја и реформисања образовањ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b85c00"/>
                </a:solidFill>
                <a:latin typeface="Arial"/>
              </a:rPr>
              <a:t>Иновирање</a:t>
            </a: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 – процес увођења нових метода, поступака, средстава, наставних садржаја, програма, појмова, мерних инструмената у образовни процес и наставников рад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b85c00"/>
                </a:solidFill>
                <a:latin typeface="Arial"/>
              </a:rPr>
              <a:t>Циљ иновирања</a:t>
            </a:r>
            <a:r>
              <a:rPr b="0" lang="sr-CS" sz="2800" spc="-1" strike="noStrike">
                <a:solidFill>
                  <a:srgbClr val="b85c00"/>
                </a:solidFill>
                <a:latin typeface="Arial"/>
              </a:rPr>
              <a:t>: унапређивање процеса учења и развоја ученикове личности у оквиру образовања и васпитањ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Три фактора формирања ставова и спремности наставника за увођење иновација у наставу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Социјално-психолошки канали преношења информација о иновацијама: колегијална подршка;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Очекивања од иновација;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b85c00"/>
                </a:solidFill>
                <a:latin typeface="Arial"/>
              </a:rPr>
              <a:t>Опажање како социјално окружење подржава иновирање наставе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a69564"/>
                </a:solidFill>
                <a:latin typeface="Arial"/>
              </a:rPr>
              <a:t>Пет стадијума увођења иновациј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271800" indent="-271800">
              <a:lnSpc>
                <a:spcPct val="90000"/>
              </a:lnSpc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дијум сазнавања</a:t>
            </a:r>
            <a:r>
              <a:rPr b="0" lang="en-US" sz="2400" spc="-1" strike="noStrike">
                <a:solidFill>
                  <a:srgbClr val="b85c00"/>
                </a:solidFill>
                <a:latin typeface="Arial"/>
              </a:rPr>
              <a:t> –</a:t>
            </a: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 наставници уче о иновацијама, функцији нових поступака у настави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1800" indent="-271800">
              <a:lnSpc>
                <a:spcPct val="90000"/>
              </a:lnSpc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дијум убеђивања – започиње формирање ставова наставника према иновацијама кроз интеракцију са другима (на основу евалуације иновација)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1800" indent="-271800">
              <a:lnSpc>
                <a:spcPct val="90000"/>
              </a:lnSpc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дијум одлучивања – тражење додатних информација и одлучивање да ли ће се иновација прихватити или одбацити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1800" indent="-271800">
              <a:lnSpc>
                <a:spcPct val="90000"/>
              </a:lnSpc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дијум примене – почиње коришћење, експериментише се, постепено овладава употребом;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1800" indent="-271800">
              <a:lnSpc>
                <a:spcPct val="90000"/>
              </a:lnSpc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b85c00"/>
                </a:solidFill>
                <a:latin typeface="Arial"/>
              </a:rPr>
              <a:t>Стадијум прихватања – континуирано коришћење или одбацивање на основу утврђене користи или штетности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9:02:54Z</dcterms:created>
  <dc:creator>Dragana</dc:creator>
  <dc:description/>
  <dc:language>en-US</dc:language>
  <cp:lastModifiedBy>Centar</cp:lastModifiedBy>
  <dcterms:modified xsi:type="dcterms:W3CDTF">2008-05-15T16:31:30Z</dcterms:modified>
  <cp:revision>21</cp:revision>
  <dc:subject/>
  <dc:title>Карактеристике професионалног деловања наставника и однос према иновацијама</dc:title>
</cp:coreProperties>
</file>